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AA7-9163-4A76-A8DB-3AC3C03D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389-2241-43C9-8D5F-F822B344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8DA-D604-4834-9396-8A0196EE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D1-6625-4A7C-BEA1-5627E3B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8F29-F900-47A5-9AD8-BA573E2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830-2B08-4D81-AAD1-607867C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DE2-4DF8-431E-B41B-87B1BC33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D05-E77B-4481-BD0C-4922D6A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A74-10FB-43BB-9469-EC66C13D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3212-50A0-4360-9A10-B3C584FA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253F-AC90-41FF-A852-D90EE96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EB7-46E4-4753-A4C5-863465D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76A-53BA-4BFE-A6F6-B797AF3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81EC-704F-44C1-9CA5-723A09B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923-C27D-493B-AF9F-0D13CEA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2154-DC33-4D75-B804-3E8941A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58CE-C6D1-4B09-916A-60ACA110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3F64-DFB2-4017-B8AA-667B0B0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23EA-6D4B-42AE-BA8A-691A5C8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F206-456A-492F-A83F-2F4454B4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AD03-D5BC-4A28-9586-3074A38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3F83-FEF0-443E-94F3-D24F490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FEE-5A4F-4B2E-97A0-3E58041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411E-D1CF-4A89-96E6-A77897D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8029-4AA0-4FC0-BEA6-E258A40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A4E3-8242-49C7-A12E-DA63CCA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169F-E8E4-4F28-87E4-4B78281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3628-3C21-48CD-A835-E52B05D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3D33-FF91-459C-8222-D0B680E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C44F-1338-4A1D-8953-725590C9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47D9-9EC0-48C9-88BD-B8B005AA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5229-6084-4326-A595-A8F3EDBA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718A1-8B41-406E-BF2D-D2B17935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3E1-8000-486E-822A-6883239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06BA-CF29-457C-8C39-C8AF67E2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9A59-1168-41C8-94FA-1EE0923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C457-1188-4EED-A26C-527E3B7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CCFD-2D0A-42F9-B0AB-B135835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7523-3B05-41EE-B30F-121456B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23C2-A5C2-40DF-9E43-686507F7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D85C-C552-4E96-8ADE-2F8C083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2CEA-F492-4AF8-AECB-20E0F008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ED75-4307-48CE-8DDA-BF67F7BF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A3CD-49C3-4D46-8C5A-07278FC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B84-8570-4545-812B-127DE965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1C98-58C2-400C-B636-EAB5ED3D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F4F2-FE2C-49E8-9E4F-D0D014C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BF6E-2562-4F7A-B3B4-D3C2CC5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DD1B-F7C1-4818-9D7E-6D9838D6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9C59-92D0-46F5-B63C-5AFBDBA9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7E88-29C5-49D2-AF0C-29C9CA7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45CF-3C65-4E63-B20B-1A1A5BD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9D10-877D-4C3D-82C5-4DDF5954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84FF-D9D0-4124-882C-BE184D89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D991-E041-496C-A9E7-F1DEEA23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718-1D7A-4F1A-977B-5CB61740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1EDBD-6E11-4207-8EEE-3F47BB40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40F-8849-4623-893D-C4C810F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35D-5985-4465-822B-67C6897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F9A-5CF5-479D-82A6-BE8D820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2553-AA78-44A1-B2EA-535293A4F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EC1-8420-453C-9ADB-2F8C106F08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B886-2F5E-45D3-934A-BEA7CB0469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2f5897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2f58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834-4BF8-42CC-A894-6DF58033B0B3}" type="slidenum">
              <a:rPr b="0" lang="en-US" sz="1600" spc="-1" strike="noStrike">
                <a:solidFill>
                  <a:srgbClr val="2f589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2E2B-2460-4CF7-82AF-DAD0F1D5A3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FUAWMMdE7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OS APUNTES: IRREGULAR PRETERITE VERBS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S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.2(ORANGE BOOKS)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RREGULAR PRETERIT VERBS DO YOU ALREADY KNOW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IR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go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SER</a:t>
            </a: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be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DAR 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give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VER –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see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HACER –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make/do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41280" y="1522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ORE IRREGULAR PRETERITE VERB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609120"/>
            <a:ext cx="752148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he following verbs have irregular 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STEMS, 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but they have the same </a:t>
            </a: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endings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762120" y="1523880"/>
            <a:ext cx="274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5252"/>
                </a:solidFill>
                <a:latin typeface="Franklin Gothic Book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Anda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walk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Esta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b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Pode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be ab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Pon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pu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Quere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want,  lov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Sab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know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Ten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hav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Veni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com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3429000" y="1523880"/>
            <a:ext cx="274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8422"/>
                </a:solidFill>
                <a:latin typeface="Franklin Gothic Book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And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Est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Pud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Pus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Quis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Sup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T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Vin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4120" y="2438280"/>
          <a:ext cx="3276360" cy="238608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M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TE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ER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  <p:sp>
        <p:nvSpPr>
          <p:cNvPr id="224" name="Content Placeholder 2"/>
          <p:cNvSpPr/>
          <p:nvPr/>
        </p:nvSpPr>
        <p:spPr>
          <a:xfrm>
            <a:off x="5562720" y="1447920"/>
            <a:ext cx="320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IRREGULAR PRETERITE ENDING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ÁCTICA - TRANSLAT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Content Placeholder 2" descr=""/>
          <p:cNvPicPr/>
          <p:nvPr/>
        </p:nvPicPr>
        <p:blipFill>
          <a:blip r:embed="rId1"/>
          <a:stretch/>
        </p:blipFill>
        <p:spPr>
          <a:xfrm>
            <a:off x="743040" y="1060560"/>
            <a:ext cx="76024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RREGULAR PRETERI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-STEMS ENDINGS  WITH A “</a:t>
            </a:r>
            <a:r>
              <a:rPr b="0" lang="en-US" sz="2800" spc="-1" strike="noStrike">
                <a:solidFill>
                  <a:srgbClr val="e68422"/>
                </a:solidFill>
                <a:latin typeface="Franklin Gothic Medium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If the irregular verb stem ends in a “</a:t>
            </a:r>
            <a:r>
              <a:rPr b="1" lang="en-US" sz="2600" spc="-1" strike="noStrike">
                <a:solidFill>
                  <a:srgbClr val="e68422"/>
                </a:solidFill>
                <a:latin typeface="Franklin Gothic Book"/>
              </a:rPr>
              <a:t>J</a:t>
            </a: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”, then the 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ellos, ellas, ustedes </a:t>
            </a: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form drops the 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“i”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VERBS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e68422"/>
                </a:solidFill>
                <a:latin typeface="Franklin Gothic Book"/>
              </a:rPr>
              <a:t>STEMS</a:t>
            </a:r>
            <a:r>
              <a:rPr b="1" lang="en-US" sz="36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Decir- To say/tell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raer- To bring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Tra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ra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Conducir-To driv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Con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n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Producir- To produc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Pro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ro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raducir- To translat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Tra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ra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553080" y="198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Ellos/Ella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Ustedes Fo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ÁS PRÁCTIC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1. They brought a notebook to Spanish class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Ellos trajeron un cuaderno a la clase de espanol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2. We translated a poe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c5252"/>
                </a:solidFill>
                <a:latin typeface="Franklin Gothic Book"/>
              </a:rPr>
              <a:t>Nosotros tradujimos un poema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3. You all (formal) drove the car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Ustedes condujeron el coche/ el carro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4. He produced a movie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c5252"/>
                </a:solidFill>
                <a:latin typeface="Franklin Gothic Book"/>
              </a:rPr>
              <a:t>él produjo una pelicula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5. They told me (To me they told) the truth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Ellos me dijeron la verdad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RREGULAR PRETERITE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Franklin Gothic Medium"/>
                <a:hlinkClick r:id="rId1"/>
              </a:rPr>
              <a:t>SONG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 TO THE TUNE OF “</a:t>
            </a:r>
            <a:r>
              <a:rPr b="0" lang="en-US" sz="2800" spc="-1" strike="noStrike">
                <a:solidFill>
                  <a:srgbClr val="9c5252"/>
                </a:solidFill>
                <a:latin typeface="Franklin Gothic Medium"/>
              </a:rPr>
              <a:t>LA CUCARACHA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2"/>
          <a:stretch/>
        </p:blipFill>
        <p:spPr>
          <a:xfrm>
            <a:off x="517680" y="1255680"/>
            <a:ext cx="9010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49:58Z</dcterms:created>
  <dc:creator>Heffernen, Heather</dc:creator>
  <dc:description/>
  <dc:language>en-US</dc:language>
  <cp:lastModifiedBy>Prine, Stephanie</cp:lastModifiedBy>
  <dcterms:modified xsi:type="dcterms:W3CDTF">2013-03-15T12:09:24Z</dcterms:modified>
  <cp:revision>20</cp:revision>
  <dc:subject/>
  <dc:title>Los Apuntes: Irregular Preterite Verbs</dc:title>
</cp:coreProperties>
</file>